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2A1-9215-407B-B230-2AD1F859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016-D512-43F4-AF37-0099465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D66-BD8D-4C65-B270-41D82A4B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D38-B14D-4D9E-9EEF-3B676FF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580-3715-4743-B17A-CF8114AC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F9E-8519-4ED4-86E5-9A9B9BA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C04-CC69-4430-9116-FB48F40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185-A66D-4608-B7F9-4DB6AC7A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08B-B572-462C-93A4-1A58B39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BC1-8D86-4342-BEE4-2E89E0D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E5D-1600-4749-8393-0177CAF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8BB-E657-454C-B787-7BB613B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E51D-C73C-4418-AF8A-27060AFC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6 de marz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EPASO VERBAL DE LA TAREA 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completa la conversac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 Jose, ¿Dónde (1)____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:  Ay, doctor. (2)____ duele en todas partes. (3)____ duele la cabeza, (4)_____ duele la garga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Muy bien, Jose. (5)_____ voy a examinar. ¿(6)_____ permi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228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0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5-03-27T13:11:44Z</dcterms:modified>
  <cp:revision>29</cp:revision>
  <dc:subject/>
  <dc:title>Me llamo ________ Clase 7 im La fecha es el 13 de mayo del 2011</dc:title>
</cp:coreProperties>
</file>